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158-0533-4697-AA6E-4088B5EC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989-2506-4758-B339-EDB65FB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AB9-E29A-46EB-8FEB-C6ACF1AD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12A-D199-4311-B3C5-5329F8CB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2BC-390D-4B4B-9E0E-647C1D76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F4F-878D-4AF4-BFB7-0C6D0F1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F27-487F-47B6-B72E-C1C60928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E56-1F24-4DF4-AB8B-59AA52E9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0D4-CA2A-41E4-94B6-9F75F146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B75-7A0C-4FA0-A49E-9A80F3B7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33F-DBB8-42AF-A4D7-4516EE7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998-7E0E-460B-BECC-839032D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DA10-0619-417F-9C96-9578A6E6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hyperlink" Target="http://www.freeplaymusic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5029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: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143000"/>
            <a:ext cx="5638680" cy="35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hocola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h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Cook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7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5410080"/>
            <a:ext cx="5790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Wakefield"/>
          <p:cNvPicPr/>
          <p:nvPr/>
        </p:nvPicPr>
        <p:blipFill>
          <a:blip r:embed="rId1"/>
          <a:srcRect l="0" t="0" r="72819" b="0"/>
          <a:stretch/>
        </p:blipFill>
        <p:spPr>
          <a:xfrm>
            <a:off x="457200" y="228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10552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0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6668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ocolate chip cookie is a delicious treat to e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Wakefield"/>
          <p:cNvPicPr/>
          <p:nvPr/>
        </p:nvPicPr>
        <p:blipFill>
          <a:blip r:embed="rId3"/>
          <a:srcRect l="30100" t="0" r="0" b="0"/>
          <a:stretch/>
        </p:blipFill>
        <p:spPr>
          <a:xfrm>
            <a:off x="3276720" y="228600"/>
            <a:ext cx="5486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chocolate chip cookie is made with semi-sweet chocolate chips or morsels and creamy d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recipe for the chocolate chip cookie was published in many different newspapers, including the Boston newspaper for its delicious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little treat is a very popular food throughout the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 chocolate chip cookie was included in the “Chocolate Chip” history for its wonderful impact on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609480"/>
            <a:ext cx="8315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ntion: Chocolate Chip Cooki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the year of 1924, Ruth Wakefield graduated from Framingham State Normal School Department of Household 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ater on, she worked with Andrew Nestle to create a cookie company called Toll House Cook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favorite recipe of Ruth Wakefield’s is the Butter Drop Do cook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any cooking books were published with some of her famous recipes. One of them was called Ruth Wakefield’s Reci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n 1977, Ruth Wakefield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 little while later, in 1977, her cookie house burned down on New Year’s 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00200" y="533520"/>
            <a:ext cx="61628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entor: Ruth Wakefie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43:32Z</dcterms:created>
  <dc:creator>install</dc:creator>
  <dc:description/>
  <dc:language>en-US</dc:language>
  <cp:lastModifiedBy>install</cp:lastModifiedBy>
  <dcterms:modified xsi:type="dcterms:W3CDTF">2010-05-12T17:36:45Z</dcterms:modified>
  <cp:revision>7</cp:revision>
  <dc:subject/>
  <dc:title>Slide 1</dc:title>
</cp:coreProperties>
</file>